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63D-BE70-4D0A-B974-A68A254E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B97-7ADF-43C7-A990-D3D430B5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8A7-611A-446B-9AD7-AB774B2F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7E3-371E-4F04-9225-E3C70A59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FEA-72AA-4B8A-A1C9-8A582E29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7836-41D8-4A5C-919E-8837E237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D04-C51D-439D-A220-F5FD9163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4D4-E17F-46FB-82AB-9F9DC795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FFF-64FF-4010-BA0A-1052D577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68B-C8F9-4A16-A9B8-87AD0E95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6363-0FC7-4BDE-86E3-75E9DF57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E21-8233-4BC6-91D0-A58A4354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A401-3DB1-4F05-9F12-EA35851FE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56160" y="269064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19:57:11Z</dcterms:created>
  <dc:creator>lab</dc:creator>
  <dc:description/>
  <dc:language>en-US</dc:language>
  <cp:lastModifiedBy>lab</cp:lastModifiedBy>
  <dcterms:modified xsi:type="dcterms:W3CDTF">2010-07-27T19:57:20Z</dcterms:modified>
  <cp:revision>1</cp:revision>
  <dc:subject/>
  <dc:title>Slide 1</dc:title>
</cp:coreProperties>
</file>